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577-E006-42BD-8527-EB6CCAD5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6C9-3453-48A3-9AB1-27FAA3FB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ABC6-F7AE-4F5C-A135-FA216EB3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7A74-5502-4645-A0FA-947034748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1CEC-1270-46D4-BDA4-E744B7CA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062-CE7F-4E26-9E20-7F236EC7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620-3644-4277-8DAB-A06EE2D2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A7A-112E-424A-B262-35CF6C8A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F01D-A73D-4F03-822D-9BF8E6E8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F6FB-47CC-40F1-8899-7BF41BB8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Segregation and Discrimin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800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31"/>
          <p:cNvSpPr/>
          <p:nvPr/>
        </p:nvSpPr>
        <p:spPr>
          <a:xfrm flipH="1" rot="10792800">
            <a:off x="837360" y="1760400"/>
            <a:ext cx="7467840" cy="1827360"/>
          </a:xfrm>
          <a:prstGeom prst="upArrowCallout">
            <a:avLst>
              <a:gd name="adj1" fmla="val 50823"/>
              <a:gd name="adj2" fmla="val 4321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9"/>
          <p:cNvSpPr/>
          <p:nvPr/>
        </p:nvSpPr>
        <p:spPr>
          <a:xfrm>
            <a:off x="914400" y="185436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ooker T. Washingt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the most famou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lack leader of the lat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2"/>
          <p:cNvSpPr/>
          <p:nvPr/>
        </p:nvSpPr>
        <p:spPr>
          <a:xfrm>
            <a:off x="838080" y="4038480"/>
            <a:ext cx="74678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shington believed that black citizens should focus their energies o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uilding up their own economic resources through hard work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 of using those energies to overturn Jim C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4"/>
          <p:cNvSpPr/>
          <p:nvPr/>
        </p:nvSpPr>
        <p:spPr>
          <a:xfrm flipH="1" rot="5400000">
            <a:off x="1827720" y="1547640"/>
            <a:ext cx="2362320" cy="4343400"/>
          </a:xfrm>
          <a:prstGeom prst="upArrowCallout">
            <a:avLst>
              <a:gd name="adj1" fmla="val 25002"/>
              <a:gd name="adj2" fmla="val 25000"/>
              <a:gd name="adj3" fmla="val 30644"/>
              <a:gd name="adj4" fmla="val 66660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838080" y="17524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disagreed with Booker T. Washingt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990720" y="2614680"/>
            <a:ext cx="27432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.E.B. Du Bo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gued that blacks should demand full and equal rights immedi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486400" y="2462040"/>
            <a:ext cx="27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u Bois felt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burden of achieving equality should not rest on the shoulders of African Americans al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838080" y="52578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 black leader w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da B. Well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o devoted her life to the crusade against lyn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8"/>
          <p:cNvSpPr/>
          <p:nvPr/>
        </p:nvSpPr>
        <p:spPr>
          <a:xfrm>
            <a:off x="5029200" y="2362320"/>
            <a:ext cx="365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s Gorras Blanca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xican American group, fought for their rights by inflicting property damage on landowners and publishing grievances in their own newspa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1"/>
          <p:cNvSpPr/>
          <p:nvPr/>
        </p:nvSpPr>
        <p:spPr>
          <a:xfrm flipH="1" rot="5400000">
            <a:off x="952560" y="2120400"/>
            <a:ext cx="3733560" cy="4038480"/>
          </a:xfrm>
          <a:prstGeom prst="upArrowCallout">
            <a:avLst>
              <a:gd name="adj1" fmla="val 20845"/>
              <a:gd name="adj2" fmla="val 18875"/>
              <a:gd name="adj3" fmla="val 13811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901800" y="2374920"/>
            <a:ext cx="309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In the Southwest, four out of five Mexican Americans lost their land </a:t>
            </a:r>
            <a:br>
              <a:rPr sz="2200"/>
            </a:b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after the Mexican-American War, despite a treaty which guaranteed their property r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447920" y="12952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xican Americans struggled against discri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00600" y="3885840"/>
            <a:ext cx="3276720" cy="1600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ゴシック"/>
              </a:rPr>
              <a:t>Faced with severe job discrimination, some Chinese Americans managed to start their own businesses.</a:t>
            </a:r>
            <a:endParaRPr b="1" lang="en-US" sz="22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inese immigrants also faced racial prejudice in the West at this tim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800600" y="2286000"/>
            <a:ext cx="3352680" cy="1447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ゴシック"/>
              </a:rPr>
              <a:t>The Chinese Exclusion Act prohibited Chinese laborers from entering the coun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50607294"/>
          <p:cNvPicPr/>
          <p:nvPr/>
        </p:nvPicPr>
        <p:blipFill>
          <a:blip r:embed="rId1"/>
          <a:stretch/>
        </p:blipFill>
        <p:spPr>
          <a:xfrm>
            <a:off x="1371600" y="2362320"/>
            <a:ext cx="3110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0"/>
          <p:cNvSpPr/>
          <p:nvPr/>
        </p:nvSpPr>
        <p:spPr>
          <a:xfrm flipH="1" rot="5400000">
            <a:off x="1561680" y="1790280"/>
            <a:ext cx="2743200" cy="4952880"/>
          </a:xfrm>
          <a:prstGeom prst="upArrowCallout">
            <a:avLst>
              <a:gd name="adj1" fmla="val 18409"/>
              <a:gd name="adj2" fmla="val 21759"/>
              <a:gd name="adj3" fmla="val 20362"/>
              <a:gd name="adj4" fmla="val 48528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57200" y="14428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or to the Civil War, women played a large role in reform movements, including the call to abolish sla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57200" y="305748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ders wanted to further women’s rights and were disappointed when women were not included in the Fourteenth and Fifteenth amend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5575320" y="3029040"/>
            <a:ext cx="28828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usan B. Anthony and Elizabeth Cady Stanton formed the National Woman Suffrage Association in 186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31"/>
          <p:cNvSpPr/>
          <p:nvPr/>
        </p:nvSpPr>
        <p:spPr>
          <a:xfrm flipH="1" rot="10792800">
            <a:off x="839520" y="1379520"/>
            <a:ext cx="7467480" cy="1827360"/>
          </a:xfrm>
          <a:prstGeom prst="upArrowCallout">
            <a:avLst>
              <a:gd name="adj1" fmla="val 50821"/>
              <a:gd name="adj2" fmla="val 4321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286000" y="34290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waiting trial, she toured the nation, delivering a powerful speech on the 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447920" y="4952880"/>
            <a:ext cx="65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Activists did not secure women</a:t>
            </a:r>
            <a:r>
              <a:rPr b="0" lang="ja-JP" sz="2200" spc="-1" strike="noStrike">
                <a:solidFill>
                  <a:srgbClr val="0000ff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s suffrage during the 19th 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600200" y="1447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san B. Anthony voted in an election in 1872 and was arres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how whites created a segregated society in the South and how African Americans respo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efforts to limit immig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situations of Mexican Americans and of women to those of other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9644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im Crow la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regation laws enacted in the South after Re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ll ta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ax which voters were required to pay to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iteracy te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ing and writing test formerly used in some southern states to prevent African Americans from vo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dfather clau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w which allowed a person to vote only if his ancestors had voted prior to 1866, also used to disenfranchise African American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838080" y="1752480"/>
            <a:ext cx="77724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ooker T. Washingt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st famous black leader during the late 19th century, he encouraged African Americans to build up their economic resources through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.E.B. Du Bo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black leader in the lat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who disagreed with Washington and argued that blacks should demand full and immediate e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da B. Well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frican American teacher who bought a newspaper and embarked on a lifelong crusade against the practice of lyn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838080" y="17524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s Gorras Blanca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group of Mexican Americans who protested their loss of land in the Southwest by targeting the property of large ranch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143000" y="16257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were the civil and political rights of certain groups in America undermined during the years after Reconstr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181160" y="3124080"/>
            <a:ext cx="73134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course of the Gilded Age, the equal rights extended to African Americans during Reconstruction were narr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move away from equality for all had a lasting impact on society in the United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HSUS09_EQ_logoSmall"/>
          <p:cNvPicPr/>
          <p:nvPr/>
        </p:nvPicPr>
        <p:blipFill>
          <a:blip r:embed="rId1"/>
          <a:stretch/>
        </p:blipFill>
        <p:spPr>
          <a:xfrm>
            <a:off x="45720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2"/>
          <p:cNvSpPr/>
          <p:nvPr/>
        </p:nvSpPr>
        <p:spPr>
          <a:xfrm>
            <a:off x="1320840" y="2730600"/>
            <a:ext cx="6324480" cy="22222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9"/>
          <p:cNvSpPr/>
          <p:nvPr/>
        </p:nvSpPr>
        <p:spPr>
          <a:xfrm>
            <a:off x="838080" y="17524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deral troops were removed from the South in 187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73120" y="2882880"/>
          <a:ext cx="6019920" cy="1938240"/>
        </p:xfrm>
        <a:graphic>
          <a:graphicData uri="http://schemas.openxmlformats.org/drawingml/2006/table">
            <a:tbl>
              <a:tblPr/>
              <a:tblGrid>
                <a:gridCol w="2590920"/>
                <a:gridCol w="342900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Ways in which blacks</a:t>
                      </a:r>
                      <a:r>
                        <a:rPr b="1" lang="ja-JP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 right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to vote was restricted in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the South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61"/>
          <p:cNvSpPr/>
          <p:nvPr/>
        </p:nvSpPr>
        <p:spPr>
          <a:xfrm>
            <a:off x="838080" y="52578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regation vi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im Crow law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me the norm, and African Americans lost voting r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9"/>
          <p:cNvSpPr/>
          <p:nvPr/>
        </p:nvSpPr>
        <p:spPr>
          <a:xfrm>
            <a:off x="4152960" y="2832120"/>
            <a:ext cx="32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ll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1"/>
          <p:cNvSpPr/>
          <p:nvPr/>
        </p:nvSpPr>
        <p:spPr>
          <a:xfrm>
            <a:off x="4152960" y="3403440"/>
            <a:ext cx="32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iteracy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4"/>
          <p:cNvSpPr/>
          <p:nvPr/>
        </p:nvSpPr>
        <p:spPr>
          <a:xfrm>
            <a:off x="4152960" y="3898800"/>
            <a:ext cx="346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dfather 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5"/>
          <p:cNvSpPr/>
          <p:nvPr/>
        </p:nvSpPr>
        <p:spPr>
          <a:xfrm>
            <a:off x="4152960" y="4419720"/>
            <a:ext cx="346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952880" y="1649520"/>
            <a:ext cx="3657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any strategies used to keep African American voters away from the polls were very effe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80052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457200" y="144792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addition to losing their voting rights, African Americans also faced widespread segregation in the South and in the Nor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H="1" rot="5400000">
            <a:off x="1142640" y="2163240"/>
            <a:ext cx="2667240" cy="4038480"/>
          </a:xfrm>
          <a:prstGeom prst="upArrowCallout">
            <a:avLst>
              <a:gd name="adj1" fmla="val 25845"/>
              <a:gd name="adj2" fmla="val 25000"/>
              <a:gd name="adj3" fmla="val 16823"/>
              <a:gd name="adj4" fmla="val 38581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58720" y="3110040"/>
            <a:ext cx="309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titutionality of Jim Crow laws was upheld by the Supreme Cour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1896 ca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less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. Fergu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4495680" y="2849400"/>
            <a:ext cx="4241880" cy="2666880"/>
            <a:chOff x="4495680" y="2849400"/>
            <a:chExt cx="4241880" cy="2666880"/>
          </a:xfrm>
        </p:grpSpPr>
        <p:sp>
          <p:nvSpPr>
            <p:cNvPr id="79" name="AutoShape 11"/>
            <p:cNvSpPr/>
            <p:nvPr/>
          </p:nvSpPr>
          <p:spPr>
            <a:xfrm flipH="1" rot="16200000">
              <a:off x="5257800" y="2087280"/>
              <a:ext cx="2666880" cy="4191120"/>
            </a:xfrm>
            <a:prstGeom prst="upArrowCallout">
              <a:avLst>
                <a:gd name="adj1" fmla="val 25845"/>
                <a:gd name="adj2" fmla="val 25000"/>
                <a:gd name="adj3" fmla="val 17462"/>
                <a:gd name="adj4" fmla="val 38581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384880" y="2950920"/>
              <a:ext cx="33526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Still, African Americans refused to accept their status as second-class citizens.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Several important leaders emerged and called for equality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Jillian Campbell</cp:lastModifiedBy>
  <cp:lastPrinted>2008-05-21T18:42:16Z</cp:lastPrinted>
  <dcterms:modified xsi:type="dcterms:W3CDTF">2012-02-20T01:24:28Z</dcterms:modified>
  <cp:revision>20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